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82D6-3175-4F7B-B0A1-ECBE89FE16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38CD-DEA9-4CC9-B4E1-A7357C1EAA34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3FD7-758F-4F2F-99B7-E1D10FBC06CB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1F91-5E07-42B2-9C98-4FBCC8888AFF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789-26F3-4B17-BE42-AAA4DD0A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18E-FCDF-4279-BF1B-3A91C3D2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377D-92C2-4B7C-8794-790C56C0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E3A-7003-41B4-9F2E-E62E501C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EDB1-264B-4DB5-B980-B87307B7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A36B-719C-47E2-AB2A-8F060868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813E-6055-401C-AABF-058273BA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2E62-BC42-48E8-BF33-750160DA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2E8A-695B-4C3A-BFC5-7FA91629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8622-6998-480B-8A36-84BEB00F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02FC-9126-4354-8546-3732491A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394-A6BC-46E5-A7FF-43988F66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F102-9D33-42E5-9559-DE175243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BBA5-D481-4440-BB2B-F094D236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18EA-5F63-46CC-9D1B-A588C715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7B14-5487-4F8C-8558-2BDE071E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BE5E-3EB9-45E8-9BB4-76A158E5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EBCA-E564-4A6F-8B38-7D01F2E7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0D2-4A44-432E-892A-F27D49B8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0C8C-EB8B-41FD-BBEE-5CA525A6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8DAE-6CA0-4B6C-8459-1ABC42EB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D40-CA28-4218-8F0A-507EE8CA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019-B385-4EC1-8526-9186D34F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4A5-6468-472C-8474-7ED3DB1A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75CF-7865-4A83-85E8-F7989D581731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B4BF-E4D0-4A36-9856-3BBD7FEC5CB2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9"/>
          <p:cNvSpPr/>
          <p:nvPr/>
        </p:nvSpPr>
        <p:spPr>
          <a:xfrm>
            <a:off x="971640" y="1214280"/>
            <a:ext cx="70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ahoma"/>
              </a:rPr>
              <a:t>Corporación Municipal Viña del M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" name="Group 12"/>
          <p:cNvGrpSpPr/>
          <p:nvPr/>
        </p:nvGrpSpPr>
        <p:grpSpPr>
          <a:xfrm>
            <a:off x="7429680" y="357120"/>
            <a:ext cx="1713960" cy="1453320"/>
            <a:chOff x="7429680" y="357120"/>
            <a:chExt cx="1713960" cy="1453320"/>
          </a:xfrm>
        </p:grpSpPr>
        <p:pic>
          <p:nvPicPr>
            <p:cNvPr id="118" name="Picture 13" descr="log-cmvm"/>
            <p:cNvPicPr/>
            <p:nvPr/>
          </p:nvPicPr>
          <p:blipFill>
            <a:blip r:embed="rId1"/>
            <a:stretch/>
          </p:blipFill>
          <p:spPr>
            <a:xfrm>
              <a:off x="7429680" y="357120"/>
              <a:ext cx="1713960" cy="96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4" descr="Copia de logo02"/>
            <p:cNvPicPr/>
            <p:nvPr/>
          </p:nvPicPr>
          <p:blipFill>
            <a:blip r:embed="rId2"/>
            <a:stretch/>
          </p:blipFill>
          <p:spPr>
            <a:xfrm>
              <a:off x="7429680" y="1397880"/>
              <a:ext cx="1713960" cy="41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1 CuadroTexto"/>
          <p:cNvSpPr/>
          <p:nvPr/>
        </p:nvSpPr>
        <p:spPr>
          <a:xfrm>
            <a:off x="1835280" y="263700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GRAMA CREZCO DESCUBRIEN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6 CuadroTexto"/>
          <p:cNvSpPr/>
          <p:nvPr/>
        </p:nvSpPr>
        <p:spPr>
          <a:xfrm>
            <a:off x="900000" y="407664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ISCILLA RODRIGUEZ RAMIRE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oordinadora Técnica de Educación Parvula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7 CuadroTexto"/>
          <p:cNvSpPr/>
          <p:nvPr/>
        </p:nvSpPr>
        <p:spPr>
          <a:xfrm>
            <a:off x="2340000" y="5589720"/>
            <a:ext cx="38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Hotel Marina del Rey, Viña del Ma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12 de Mayo de 201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ahoma"/>
              </a:rPr>
              <a:t>ACCIONES REALIZADAS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trega de programa de Educación Parvularia a equipo directivo y educadoras de párvulos (ordinario Nº 98 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laboración de Plan de Articulación (30 de Marzo 2011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trega primer estado de avance de aprendizaje esperados de ciencias y lenguaje (06 de Mayo 2011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Visitas integrales de aula: Aplicación de pauta de acompañamiento crítico de Educación parvularia (copia a educadora y UTP/Director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84360" y="1413000"/>
          <a:ext cx="8064360" cy="4697280"/>
        </p:xfrm>
        <a:graphic>
          <a:graphicData uri="http://schemas.openxmlformats.org/drawingml/2006/table">
            <a:tbl>
              <a:tblPr/>
              <a:tblGrid>
                <a:gridCol w="1508040"/>
                <a:gridCol w="2217600"/>
                <a:gridCol w="2217960"/>
                <a:gridCol w="465120"/>
                <a:gridCol w="1655640"/>
              </a:tblGrid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PERIO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APRENDIZAJE ESPERA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INDICADORES DE DESEMPEÑ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CRITERIO DE EVALUAC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880">
                <a:tc row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PERIOD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MARZO-MAY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(3) Reconocer a través de la observación, características básicas de las personas, animales, plantas y algunos cambios de la materia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marL="111240" algn="just">
                        <a:lnSpc>
                          <a:spcPct val="115000"/>
                        </a:lnSpc>
                        <a:buClr>
                          <a:srgbClr val="00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Describe algunos cambios físicos evidentes que se presentan en el proceso de crecimiento de personas y otros seres vivos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1112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111240" algn="just">
                        <a:lnSpc>
                          <a:spcPct val="115000"/>
                        </a:lnSpc>
                        <a:buClr>
                          <a:srgbClr val="00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Señala dos o tres semejanzas y diferencias entre plantas y animales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1112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111240" algn="just">
                        <a:lnSpc>
                          <a:spcPct val="115000"/>
                        </a:lnSpc>
                        <a:buClr>
                          <a:srgbClr val="00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Describe color, tamaño, forma de los animales y planta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1112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111240" algn="just">
                        <a:lnSpc>
                          <a:spcPct val="115000"/>
                        </a:lnSpc>
                        <a:buClr>
                          <a:srgbClr val="00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Clasifica animales de acuerdo a su hábitat, por ejemplo: campo, selva, m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Nivel de logro entre 1% y 45% del total de actividad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Nivel de logro entre 46% y 75% del total de actividad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Nivel de logro entre 76% y 100% del total de actividad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(8) Reconocer algunos cambios o efectos físicos que provocan situaciones o fenómenos de la naturaleza, en personas y animales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 marL="111240" algn="just">
                        <a:lnSpc>
                          <a:spcPct val="115000"/>
                        </a:lnSpc>
                        <a:buClr>
                          <a:srgbClr val="00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Identifica situaciones dañinas para el cuerpo humano relacionadas con la actividad física y la alimentación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1112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111240" algn="just">
                        <a:lnSpc>
                          <a:spcPct val="115000"/>
                        </a:lnSpc>
                        <a:buClr>
                          <a:srgbClr val="00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Comenta el daño que provoca la exposición prolongada al so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11124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111240" algn="just">
                        <a:lnSpc>
                          <a:spcPct val="115000"/>
                        </a:lnSpc>
                        <a:buClr>
                          <a:srgbClr val="00003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Describe algunas sensaciones físicas en si mismo que le provocan el frío y el calo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Nivel de logro entre 1% y 45% del total de actividad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Nivel de logro entre 46% y 75% del total de actividad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33"/>
                          </a:solidFill>
                          <a:latin typeface="Calibri"/>
                          <a:ea typeface="Calibri"/>
                        </a:rPr>
                        <a:t>Nivel de logro entre 76% y 100% del total de actividad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Tahoma"/>
              </a:rPr>
              <a:t>FORMATO APRENDIZAJES ESPERADOS PROGRAMA 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Tahoma"/>
              </a:rPr>
              <a:t>FORMATO DE CALENDARIZACIÓN DE CONTENDOS DEL PROGRAMA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1700280"/>
          <a:ext cx="8496000" cy="4583160"/>
        </p:xfrm>
        <a:graphic>
          <a:graphicData uri="http://schemas.openxmlformats.org/drawingml/2006/table">
            <a:tbl>
              <a:tblPr/>
              <a:tblGrid>
                <a:gridCol w="4933800"/>
                <a:gridCol w="284040"/>
                <a:gridCol w="284400"/>
                <a:gridCol w="282600"/>
                <a:gridCol w="357120"/>
                <a:gridCol w="284040"/>
                <a:gridCol w="284040"/>
                <a:gridCol w="284400"/>
                <a:gridCol w="345960"/>
                <a:gridCol w="284040"/>
                <a:gridCol w="284400"/>
                <a:gridCol w="284040"/>
                <a:gridCol w="303120"/>
              </a:tblGrid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UGERENCIAS DE ACTIVIDAD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MARZ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BR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MAY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dentificación de partes del cuerpo: cabeza, troncos y extremidad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Representación de figura huma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dentificar etapas de la vida: lactancia, niñez, adolescencia, adultez, veje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limentación y vida saludab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utocuidado y prevención de acciden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dentificar diferencias entre animales y plant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dentificar animales según su hábitat: terrestres, marinos y aére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dentificar animales según su aliment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0d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dentificar tipos de ambientes geográficos: bosques, desiertos, et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6 CuadroTexto"/>
          <p:cNvSpPr/>
          <p:nvPr/>
        </p:nvSpPr>
        <p:spPr>
          <a:xfrm>
            <a:off x="1000080" y="121428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Gracias por su aten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7429680" y="357120"/>
            <a:ext cx="1713960" cy="1453320"/>
            <a:chOff x="7429680" y="357120"/>
            <a:chExt cx="1713960" cy="1453320"/>
          </a:xfrm>
        </p:grpSpPr>
        <p:pic>
          <p:nvPicPr>
            <p:cNvPr id="153" name="Picture 13" descr="log-cmvm"/>
            <p:cNvPicPr/>
            <p:nvPr/>
          </p:nvPicPr>
          <p:blipFill>
            <a:blip r:embed="rId1"/>
            <a:stretch/>
          </p:blipFill>
          <p:spPr>
            <a:xfrm>
              <a:off x="7429680" y="357120"/>
              <a:ext cx="1713960" cy="96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4" descr="Copia de logo02"/>
            <p:cNvPicPr/>
            <p:nvPr/>
          </p:nvPicPr>
          <p:blipFill>
            <a:blip r:embed="rId2"/>
            <a:stretch/>
          </p:blipFill>
          <p:spPr>
            <a:xfrm>
              <a:off x="7429680" y="1397880"/>
              <a:ext cx="1713960" cy="41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3"/>
          <p:cNvGrpSpPr/>
          <p:nvPr/>
        </p:nvGrpSpPr>
        <p:grpSpPr>
          <a:xfrm>
            <a:off x="8191440" y="5977080"/>
            <a:ext cx="1000080" cy="928080"/>
            <a:chOff x="8191440" y="5977080"/>
            <a:chExt cx="1000080" cy="928080"/>
          </a:xfrm>
        </p:grpSpPr>
        <p:pic>
          <p:nvPicPr>
            <p:cNvPr id="124" name="Picture 14" descr="log-cmvm"/>
            <p:cNvPicPr/>
            <p:nvPr/>
          </p:nvPicPr>
          <p:blipFill>
            <a:blip r:embed="rId1"/>
            <a:stretch/>
          </p:blipFill>
          <p:spPr>
            <a:xfrm>
              <a:off x="8191440" y="5977080"/>
              <a:ext cx="1000080" cy="61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5" descr="Copia de logo02"/>
            <p:cNvPicPr/>
            <p:nvPr/>
          </p:nvPicPr>
          <p:blipFill>
            <a:blip r:embed="rId2"/>
            <a:stretch/>
          </p:blipFill>
          <p:spPr>
            <a:xfrm>
              <a:off x="8191440" y="6641640"/>
              <a:ext cx="1000080" cy="26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Text Box 17"/>
          <p:cNvSpPr/>
          <p:nvPr/>
        </p:nvSpPr>
        <p:spPr>
          <a:xfrm>
            <a:off x="1692360" y="10526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FUNDAMENTOS PROGRAMA EDUCACION PARVULARIA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7 Diagrama" descr=""/>
          <p:cNvPicPr/>
          <p:nvPr/>
        </p:nvPicPr>
        <p:blipFill>
          <a:blip r:embed="rId3"/>
          <a:stretch/>
        </p:blipFill>
        <p:spPr>
          <a:xfrm>
            <a:off x="176040" y="2419200"/>
            <a:ext cx="8755200" cy="4438800"/>
          </a:xfrm>
          <a:prstGeom prst="rect">
            <a:avLst/>
          </a:prstGeom>
          <a:ln w="0">
            <a:noFill/>
          </a:ln>
        </p:spPr>
      </p:pic>
      <p:sp>
        <p:nvSpPr>
          <p:cNvPr id="129" name="8 CuadroTexto"/>
          <p:cNvSpPr/>
          <p:nvPr/>
        </p:nvSpPr>
        <p:spPr>
          <a:xfrm>
            <a:off x="684360" y="1557360"/>
            <a:ext cx="8208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Según lineamientos institucionales presentes en PADEM 2011 y las nuevas directrices institucionales del área de educación, el programa Crezco descubriendo se sustenta bajos lo siguientes fundamentos de la educación parvularia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ANTECEDENTES DE LAS PRÁCTICAS PEDAGOGICAS EN EDUCACION PARVULARIA 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1" name="2 Gráfico" descr=""/>
          <p:cNvPicPr/>
          <p:nvPr/>
        </p:nvPicPr>
        <p:blipFill>
          <a:blip r:embed="rId1"/>
          <a:stretch/>
        </p:blipFill>
        <p:spPr>
          <a:xfrm>
            <a:off x="1281240" y="1722600"/>
            <a:ext cx="7086600" cy="4349520"/>
          </a:xfrm>
          <a:prstGeom prst="rect">
            <a:avLst/>
          </a:prstGeom>
          <a:ln w="0">
            <a:noFill/>
          </a:ln>
        </p:spPr>
      </p:pic>
      <p:sp>
        <p:nvSpPr>
          <p:cNvPr id="132" name="3 CuadroTexto"/>
          <p:cNvSpPr/>
          <p:nvPr/>
        </p:nvSpPr>
        <p:spPr>
          <a:xfrm>
            <a:off x="1258920" y="1052640"/>
            <a:ext cx="446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1.-ÉNFASIS CURRICULAR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1 Gráfico" descr=""/>
          <p:cNvPicPr/>
          <p:nvPr/>
        </p:nvPicPr>
        <p:blipFill>
          <a:blip r:embed="rId1"/>
          <a:stretch/>
        </p:blipFill>
        <p:spPr>
          <a:xfrm>
            <a:off x="992160" y="1649520"/>
            <a:ext cx="7807320" cy="42782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Tahoma"/>
              </a:rPr>
              <a:t>2.- ARTICULACION CON EGB.</a:t>
            </a:r>
            <a:endParaRPr b="1" lang="en-US" sz="1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Tahoma"/>
              </a:rPr>
              <a:t>PROGRAMA CREZCO DESCUBRIEND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6" name="2 Diagrama" descr=""/>
          <p:cNvPicPr/>
          <p:nvPr/>
        </p:nvPicPr>
        <p:blipFill>
          <a:blip r:embed="rId1"/>
          <a:stretch/>
        </p:blipFill>
        <p:spPr>
          <a:xfrm>
            <a:off x="0" y="1908000"/>
            <a:ext cx="85345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90792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CREZCO DESCUBRIENDO ÁREA LENGUAJE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8" name="4 Diagrama" descr=""/>
          <p:cNvPicPr/>
          <p:nvPr/>
        </p:nvPicPr>
        <p:blipFill>
          <a:blip r:embed="rId1"/>
          <a:stretch/>
        </p:blipFill>
        <p:spPr>
          <a:xfrm>
            <a:off x="457200" y="695160"/>
            <a:ext cx="851076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981000"/>
            <a:ext cx="754380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CREZCO DESCUBRIENDO AREA DE MATEMATICAS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3 Diagrama" descr=""/>
          <p:cNvPicPr/>
          <p:nvPr/>
        </p:nvPicPr>
        <p:blipFill>
          <a:blip r:embed="rId1"/>
          <a:stretch/>
        </p:blipFill>
        <p:spPr>
          <a:xfrm>
            <a:off x="530280" y="762120"/>
            <a:ext cx="84312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90792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CREZCO DESCUBRIENDO ÁREA DE CIENCIAS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2" name="2 Diagrama" descr=""/>
          <p:cNvPicPr/>
          <p:nvPr/>
        </p:nvPicPr>
        <p:blipFill>
          <a:blip r:embed="rId1"/>
          <a:stretch/>
        </p:blipFill>
        <p:spPr>
          <a:xfrm>
            <a:off x="171360" y="334800"/>
            <a:ext cx="880128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83664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PROGRAMA DE ARTICULACION NT2 Y NB1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4" name="2 Diagrama" descr=""/>
          <p:cNvPicPr/>
          <p:nvPr/>
        </p:nvPicPr>
        <p:blipFill>
          <a:blip r:embed="rId1"/>
          <a:stretch/>
        </p:blipFill>
        <p:spPr>
          <a:xfrm>
            <a:off x="353880" y="549360"/>
            <a:ext cx="88027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13:52:53Z</dcterms:created>
  <dc:creator>lauverd</dc:creator>
  <dc:description/>
  <dc:language>en-US</dc:language>
  <cp:lastModifiedBy>Sebastip</cp:lastModifiedBy>
  <dcterms:modified xsi:type="dcterms:W3CDTF">2011-05-12T15:18:32Z</dcterms:modified>
  <cp:revision>77</cp:revision>
  <dc:subject/>
  <dc:title>Diapositiva 1</dc:title>
</cp:coreProperties>
</file>